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340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5360" cy="4473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066A-0052-4D65-A937-939CC79A0CF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30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53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značba mesta številke diapozitiva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46D8-37CF-4270-A053-048D77D1C3F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306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53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značba mesta številke diapozitiva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50C8-92A1-447A-8462-C47CA44380A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30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53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značba mesta številke diapozitiva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31D9-52C8-461A-B89F-3EF3403955E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306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53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značba mesta številke diapozitiva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8FE8-0A0C-4EC3-9B28-2B28EF8E637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30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53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značba mesta številke diapozitiva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CFC6-C54B-41C2-96A8-6B7CE80BCB1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30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53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značba mesta številke diapozitiva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C08D-729B-4CA6-8BB3-69025F57EEA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30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53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značba mesta številke diapozitiva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BB6B-AE53-43CF-9148-77707BD17B2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30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53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značba mesta številke diapozitiva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6683-5DB0-47BC-93F4-B4396EEA725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306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53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značba mesta številke diapozitiva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8998-E8FA-4305-B5C7-4B7CD987DC9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30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53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značba mesta številke diapozitiva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D5B0-D436-4EE0-8D82-231BD0E4E2A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213-84AF-4505-A6EE-D64BCAF4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33D-DDE0-4FD5-90AE-07EB2063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E9B6-7C32-4204-A4AC-7631CBE7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46E-B39B-4BEA-AB03-6108CB21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CFF7-8C82-420B-9E25-395AD863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C1C6-B93C-4995-8A24-EA4E4D7F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5D63-E9A8-4105-BFFC-C2BF6836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3551-E9D8-49C0-8E9B-61BB6BC8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90C2-4F1B-4353-B626-42F6D1A5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0168-D48C-4371-8C3A-24E94FDD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C9DE-9072-43FD-9B82-83DBA3F5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FFB-16DB-4871-9A17-42F19AAF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E26B-8C0A-49CE-96A9-4EBB09B0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62DC-C222-4CBD-9E22-E16485F5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5BBB-DA27-4957-AFF5-2267C061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5B16-B694-4295-A9B4-11E2B386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B76E-7941-4258-943F-B01E1919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619-38CB-4A8C-82A1-6C3BD701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916-976E-4C86-9401-71585E95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DC9-6906-4D8E-8629-46984C28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47C-CD7E-4874-84BB-9D4B1DBC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AAA-E2F7-454C-8A4A-610524C7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442-A904-4300-97D7-DA0F1D88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5C0-835A-437D-80BD-5386F009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B481-1AC0-496A-9895-5F49D07405E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D1B7-575C-451F-93E4-46CBAF949944}" type="slidenum">
              <a:rPr b="0" lang="sl-SI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lika 6" descr="Copy of BV_Certification_ISO_9001.gif"/>
          <p:cNvPicPr/>
          <p:nvPr/>
        </p:nvPicPr>
        <p:blipFill>
          <a:blip r:embed="rId2"/>
          <a:stretch/>
        </p:blipFill>
        <p:spPr>
          <a:xfrm>
            <a:off x="0" y="6173640"/>
            <a:ext cx="13320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19280" y="3428640"/>
            <a:ext cx="63691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Avtor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dr. Maja Buč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Matevž Premel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Mag. Bojan Rad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Maja Kranj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049480"/>
            <a:ext cx="7772400" cy="15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Končno vrednotenje izvajanja Operativnih programov programskega obdobja 2007-2013 v Sloven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Slika 4" descr="Logo_10let_slogan.png"/>
          <p:cNvPicPr/>
          <p:nvPr/>
        </p:nvPicPr>
        <p:blipFill>
          <a:blip r:embed="rId1"/>
          <a:stretch/>
        </p:blipFill>
        <p:spPr>
          <a:xfrm>
            <a:off x="2843280" y="765000"/>
            <a:ext cx="3752640" cy="924120"/>
          </a:xfrm>
          <a:prstGeom prst="rect">
            <a:avLst/>
          </a:prstGeom>
          <a:ln w="0">
            <a:noFill/>
          </a:ln>
        </p:spPr>
      </p:pic>
      <p:sp>
        <p:nvSpPr>
          <p:cNvPr id="93" name="Podnaslov 2"/>
          <p:cNvSpPr/>
          <p:nvPr/>
        </p:nvSpPr>
        <p:spPr>
          <a:xfrm>
            <a:off x="1982880" y="5589720"/>
            <a:ext cx="547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</a:rPr>
              <a:t>Ljubljana, 13.junij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447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Fizični kazalniki OP-jev dosež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Prostor za izboljšave&gt; bolj učinkovita in tekoča implementacija, vev pozornosti sinergij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Kritično vprašanje strateškega načrt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Prenos izkušenj in dobrih praks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Priporoči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Več strateškega načrtovanja in horizontalnega povezovan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Sistematično zbiranje dobrih pra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Upoštevanje tako pozitivnih izkušenj kot kritičnih pripom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Trajnostno financiranje pozitivnih instrumentov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00000"/>
                </a:solidFill>
                <a:latin typeface="Scala"/>
              </a:rPr>
              <a:t>Sklepi in priporoč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ravokotnik 4"/>
          <p:cNvSpPr/>
          <p:nvPr/>
        </p:nvSpPr>
        <p:spPr>
          <a:xfrm>
            <a:off x="2268360" y="19162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cala"/>
                <a:ea typeface="Tahoma"/>
              </a:rPr>
              <a:t>MK projekt</a:t>
            </a:r>
            <a:r>
              <a:rPr b="1" lang="sl-SI" sz="1800" spc="-1" strike="noStrike">
                <a:solidFill>
                  <a:srgbClr val="000000"/>
                </a:solidFill>
                <a:latin typeface="Scala"/>
                <a:ea typeface="Tahoma"/>
              </a:rPr>
              <a:t>, d.o.o. consulting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ala"/>
                <a:ea typeface="Tahoma"/>
              </a:rPr>
              <a:t>Rogaška cesta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ala"/>
                <a:ea typeface="Tahoma"/>
              </a:rPr>
              <a:t>3240 Šmarje pri Jelš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  <a:ea typeface="Tahoma"/>
              </a:rPr>
              <a:t>Slov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  <a:ea typeface="Tahoma"/>
              </a:rPr>
              <a:t>BUSSINES UN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ala"/>
                <a:ea typeface="Tahoma"/>
              </a:rPr>
              <a:t>Kotnikova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  <a:ea typeface="Tahoma"/>
              </a:rPr>
              <a:t>1000 Ljublj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  <a:ea typeface="Tahoma"/>
              </a:rPr>
              <a:t>Slov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  <a:ea typeface="Tahoma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Scala"/>
                <a:ea typeface="Tahoma"/>
              </a:rPr>
              <a:t>: </a:t>
            </a:r>
            <a:r>
              <a:rPr b="0" lang="sl-SI" sz="1800" spc="-1" strike="noStrike">
                <a:solidFill>
                  <a:srgbClr val="000000"/>
                </a:solidFill>
                <a:latin typeface="Scala"/>
                <a:ea typeface="Tahoma"/>
              </a:rPr>
              <a:t>+386 (0) </a:t>
            </a:r>
            <a:r>
              <a:rPr b="0" lang="en-US" sz="1800" spc="-1" strike="noStrike">
                <a:solidFill>
                  <a:srgbClr val="000000"/>
                </a:solidFill>
                <a:latin typeface="Scala"/>
                <a:ea typeface="Tahoma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Scal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cala"/>
                <a:ea typeface="Tahoma"/>
              </a:rPr>
              <a:t>43 05 6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ala"/>
                <a:ea typeface="Tahoma"/>
              </a:rPr>
              <a:t>Fa</a:t>
            </a:r>
            <a:r>
              <a:rPr b="0" lang="sl-SI" sz="1800" spc="-1" strike="noStrike">
                <a:solidFill>
                  <a:srgbClr val="000000"/>
                </a:solidFill>
                <a:latin typeface="Scala"/>
                <a:ea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cala"/>
                <a:ea typeface="Tahoma"/>
              </a:rPr>
              <a:t>: </a:t>
            </a:r>
            <a:r>
              <a:rPr b="0" lang="sl-SI" sz="1800" spc="-1" strike="noStrike">
                <a:solidFill>
                  <a:srgbClr val="000000"/>
                </a:solidFill>
                <a:latin typeface="Scala"/>
                <a:ea typeface="Tahoma"/>
              </a:rPr>
              <a:t>+386 (0) </a:t>
            </a:r>
            <a:r>
              <a:rPr b="0" lang="en-US" sz="1800" spc="-1" strike="noStrike">
                <a:solidFill>
                  <a:srgbClr val="000000"/>
                </a:solidFill>
                <a:latin typeface="Scala"/>
                <a:ea typeface="Tahoma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Scal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cala"/>
                <a:ea typeface="Tahoma"/>
              </a:rPr>
              <a:t>43 05 6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  <a:ea typeface="Tahoma"/>
              </a:rPr>
              <a:t>Mail</a:t>
            </a:r>
            <a:r>
              <a:rPr b="0" lang="en-US" sz="1800" spc="-1" strike="noStrike">
                <a:solidFill>
                  <a:srgbClr val="000000"/>
                </a:solidFill>
                <a:latin typeface="Scala"/>
                <a:ea typeface="Tahoma"/>
              </a:rPr>
              <a:t>: info@mk-projekt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Scala"/>
                <a:ea typeface="Tahoma"/>
              </a:rPr>
              <a:t>Website</a:t>
            </a:r>
            <a:r>
              <a:rPr b="0" lang="en-US" sz="1800" spc="-1" strike="noStrike">
                <a:solidFill>
                  <a:srgbClr val="000000"/>
                </a:solidFill>
                <a:latin typeface="Scala"/>
                <a:ea typeface="Tahoma"/>
              </a:rPr>
              <a:t>: www.mk-projekt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Slika 4" descr="Logo_10let_slogan.png"/>
          <p:cNvPicPr/>
          <p:nvPr/>
        </p:nvPicPr>
        <p:blipFill>
          <a:blip r:embed="rId1"/>
          <a:stretch/>
        </p:blipFill>
        <p:spPr>
          <a:xfrm>
            <a:off x="3276720" y="1052640"/>
            <a:ext cx="2735280" cy="67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Uvod in metod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Rezultati OP- sinerg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Izvajalske struk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Vrednotenje izbranih področij: poudar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Turistična infra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Socialno podjetniš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Kompetenčni centri za razvoj kadr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Sklepi in priporoč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00000"/>
                </a:solidFill>
                <a:latin typeface="Scala"/>
              </a:rPr>
              <a:t>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Namen vrednotenja: podati celovito sliko o dosežkih OP v programskem obdobju 2007-2013,dosežkov z vidika trajnosti, sinergij med programi ter pridobljenih izkušenj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Vrednotenje treh izbranih instr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Metodologi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Kombinacija različnih pristopov: ankete (426 naslovnikov/ 186 odgovorov, fokusne skupine in neposredni intervjuji, različna gradiva in poročila, druga vrednotenja, it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Redni delovni sestanki in usklajevanja z naročnik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00000"/>
                </a:solidFill>
                <a:latin typeface="Scala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Ocena ključnih razvojnih priorit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Konkurenčno gospodarstvo in hitrejša gospodarska rast: negativno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Učinkovito ustvarjanje, dvosmerni pretok in uporaba znanja za gosp. razvoj in kakovostna delovna mesta: dobro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Učinkovita in cenejša država: negativno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Moderna socialna država in večja zaposlenost: negativno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Povezovanje ukrepov za doseganje trajnostnega razvoja: zadostno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Poročila o razvoju, U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00000"/>
                </a:solidFill>
                <a:latin typeface="Scala"/>
              </a:rPr>
              <a:t>Rezultati vrednotenja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88880" y="1123920"/>
          <a:ext cx="8166240" cy="4897440"/>
        </p:xfrm>
        <a:graphic>
          <a:graphicData uri="http://schemas.openxmlformats.org/drawingml/2006/table">
            <a:tbl>
              <a:tblPr/>
              <a:tblGrid>
                <a:gridCol w="887400"/>
                <a:gridCol w="1646280"/>
                <a:gridCol w="1392120"/>
                <a:gridCol w="1393920"/>
                <a:gridCol w="1392480"/>
                <a:gridCol w="1454040"/>
              </a:tblGrid>
              <a:tr h="15210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rednotenje dosežkov in vpliv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žki (brez vplivov), skup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spodarski dosežki in vpli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ni dosežki in vpli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oljski dosežki in vpli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</a:tr>
              <a:tr h="842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 R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</a:tr>
              <a:tr h="844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 RČ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</a:tr>
              <a:tr h="844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 RO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</a:tr>
              <a:tr h="844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1"/>
          <p:cNvSpPr/>
          <p:nvPr/>
        </p:nvSpPr>
        <p:spPr>
          <a:xfrm>
            <a:off x="488880" y="56880"/>
            <a:ext cx="840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Scala"/>
                <a:ea typeface="Times New Roman"/>
              </a:rPr>
              <a:t>Preglednica 4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Scala"/>
                <a:ea typeface="Times New Roman"/>
              </a:rPr>
              <a:t>Sintezno ovrednotenje dosežkov in vplivov treh OP 2007-2013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Scala"/>
                <a:ea typeface="Times New Roman"/>
              </a:rPr>
              <a:t>na ravni ključnih kazalnikov OP, ocena na lestvici od 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Popis izkušenj med upraviče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Pozitivno ocenjena strokovnost skrbnikov pogo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Opozarjanje na administrativno kompleksnost poroč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Neposredni osebni stik pomembno izboljša izva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Izkušnje izvajalskih strukt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Skromne izboljšave na področju administrativne in upravljavske sposob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Nizke povprečne (samo)ocene uspeš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Nezadostno prenašanje znanja in izkušenj med strukturami in med enim in drugim program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00000"/>
                </a:solidFill>
                <a:latin typeface="Scala"/>
              </a:rPr>
              <a:t>Izvajalske struk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Odobrenih 158 projektov, 146 preko javnih razpisiov in 12 z neposrednim potrjevanjem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Rezulta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Pozitivna rast prihodkov in števila gosto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Zaradi krize 20% prejemnikov v steča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Nadaljnje potrebe- primarna infrastruktura, več povezovanja in skupne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Priporoči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Pravna podlaga za sofinanciranje infrastruktu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Financiranje obnove kapacit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Projekti usmerjeni v več povezovanja ponudniko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Usmeritev v podaljšanje biv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00000"/>
                </a:solidFill>
                <a:latin typeface="Scala"/>
              </a:rPr>
              <a:t>Vrednotenje izbranih področij- turistična infra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Dva javna razpisa, odobreno skupaj 10 + 17 projekto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Ocena trajnostnih učinkov: zelo visok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Dodatne zaposlitve, tudi v kategorijah ranljivih sku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Dodatna dejavnost, r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Administrativna usposobljenost SP za nove pro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Zakonski okvir: premalo spodbuja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Priporoči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Opredelitev ranljivih skupi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Več podpore pri prijavi in izvajanju projekto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Razvoj podpornega okolja za S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00000"/>
                </a:solidFill>
                <a:latin typeface="Scala"/>
              </a:rPr>
              <a:t>Vrednotenje izbranih področij- socialno podjetniš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Na dveh razpisih skupaj odobrenih 19 K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Anketa: zelo pozitivno ocenjen instru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Močno preseženo število vključenih v izobraževanje, visoki % doseganja tudi pri drugih kazalnik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cala"/>
              </a:rPr>
              <a:t>Priporoči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Deliti dobre prakse med izvajal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Zmanjšati birokracijo in ustrezneje organizirati objave razpis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Scala"/>
              </a:rPr>
              <a:t>Zagotavljanje kontinuiranega financiranja instrumenta, ki omogoča bolj sistematično delovan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00000"/>
                </a:solidFill>
                <a:latin typeface="Scala"/>
              </a:rPr>
              <a:t>Vrednotenje izbranih področij- KoC za razvoj kadr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8:12:43Z</dcterms:created>
  <dc:creator>Nataša Naumović</dc:creator>
  <dc:description/>
  <dc:language>en-US</dc:language>
  <cp:lastModifiedBy>Bučar, Maja</cp:lastModifiedBy>
  <dcterms:modified xsi:type="dcterms:W3CDTF">2017-05-25T14:05:11Z</dcterms:modified>
  <cp:revision>694</cp:revision>
  <dc:subject/>
  <dc:title>Lorem Ipsum</dc:title>
</cp:coreProperties>
</file>